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19315-FB13-46E5-8DA2-772FEB2DC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BBA19-C3D8-4F37-BE06-39F2A87EA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EE5C0-4CEF-463E-86B6-47934813B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DACC0-CFD9-4E9A-99CA-C2B3A4791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70BA7-E8D3-4BAB-8D05-0B635A5A5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28A61-4185-44E8-B4E6-FFB1B4CCF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434C9-EFC8-45EA-B955-7BDF5BC1E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B68DD-1860-44EC-BB24-3D3D74B85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5563B-6A45-42CF-B5AC-6D09DA9B1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BB08F-1183-4177-A021-225EAB6DD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6D0F7-D3CE-4495-8FA8-2A4F985D6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B8714-835A-4227-838B-E64EBD8BB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C380E-28A8-4B95-93B9-5F4B585B8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5B4BF-5C86-4E7E-8C4C-BAF2E002C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EE21F-09BB-42DE-ADE6-AAB032A8F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1898C-B32A-4257-8AA5-8A66FA122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C9D20-BC6D-427F-9641-CD4585BFA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C636E-AD6A-48B7-B6F9-829AE7753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7DEC0-92BC-41A8-9A05-A18F02835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222D6-74D2-407B-8F00-64A4B60EC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3F5FB-D7CE-4DA1-8783-6D7D925C7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1DB45-441A-42DB-ABFC-6C9A44676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4FF0A-6880-46D6-913E-849061B50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D4668-0B95-4BD3-92E8-6F36F16D0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8FCE5-CFA0-4EA3-B46E-ED90B8F08A76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895480"/>
            <a:ext cx="85928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4124160"/>
            <a:ext cx="767700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31BC7-718E-4047-AF8A-113FF0B911EE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9120" y="2418840"/>
            <a:ext cx="85932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제 </a:t>
            </a:r>
            <a:r>
              <a:rPr b="0" lang="en-US" sz="4400" spc="-1" strike="noStrike">
                <a:solidFill>
                  <a:srgbClr val="a3007c"/>
                </a:solidFill>
                <a:latin typeface="굴림"/>
                <a:ea typeface="굴림"/>
              </a:rPr>
              <a:t>1</a:t>
            </a: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장 특수교육학의 </a:t>
            </a:r>
            <a:br>
              <a:rPr sz="4400"/>
            </a:b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개요와 발전과제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11000" y="4362480"/>
            <a:ext cx="7677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66560" y="1339920"/>
            <a:ext cx="8226720" cy="517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이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의 목표와 목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의 대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시각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청각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신지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지체부자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서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언어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학습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 대상자 출현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특수교육의 개념과 과정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특수교육 기관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조기 특수교육 기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학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학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학습 도움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기숙제 학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병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가정 및 복지시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특수교육 과정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아동 찾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선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사정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(assess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개별화 교육계획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(Individualized Education Plan: IE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배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교수 학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수행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형성 및 총괄 평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서양의 특수교육 역사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고대와 중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장애인에 대한 편견의 시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근세 초기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장애인의 보호와 교육의 시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말 –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특수아를 위한 학교 교육의 성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청각장애교육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계 최초의 농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프랑스 파리 농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176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독일의 세계 최초의 공립 농학교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77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영국의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Braidwood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가 농교육에 기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미국의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Gallaudet: 181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에 미국에 최초의 농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시각장애교육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계 최초의 시각장애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1784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파리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영국에는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79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독일에는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0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정신지체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Itard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Seguin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의 공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 Seguin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이 미국에서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Howe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협력하여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4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에 정신지체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체부자유 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1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후반 정형외과학의 발달과 관련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; 1832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독일에서 지체부자유 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특수교육의 질적 변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한국의  특수교육 역사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삼국시대에서 조선시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빈민규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고려 숙종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복업과 궁중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조선시대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명통사에서 경문 집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개화기 및 일제시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유길준의 서유견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서양식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근대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특수교육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R. S. Hall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여사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894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제생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912)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교육과 수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박두성의 훈맹정음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929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35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이창호 목사에 의한 평양 광명 맹아학교 설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맹인 손용수는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38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에 원산 맹학교 설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해방이후부터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7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대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47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서울맹아학교 교장 윤백원에 의해 한글 지문자 제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49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특수학교 설립과 특수학급 설치에 관한 규정 공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77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특수교육진흥법 제정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1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회 개정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8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대 이후의 특수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특수교육의 최근 동향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정상화 원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교수의 개별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조기교육과 전환교육의 강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부모의 권익 강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중도 중복장애 교육의 강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a3007c"/>
                </a:solidFill>
                <a:latin typeface="Arial"/>
                <a:ea typeface="굴림"/>
              </a:rPr>
              <a:t>질문할 시간입니다</a:t>
            </a:r>
            <a:r>
              <a:rPr b="0" lang="en-US" sz="4000" spc="-1" strike="noStrike">
                <a:solidFill>
                  <a:srgbClr val="a3007c"/>
                </a:solidFill>
                <a:latin typeface="Arial"/>
                <a:ea typeface="굴림"/>
              </a:rPr>
              <a:t>.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2049480" y="1195560"/>
            <a:ext cx="561672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8T03:17:31Z</dcterms:created>
  <dc:creator/>
  <dc:description/>
  <dc:language>en-US</dc:language>
  <cp:lastModifiedBy>f</cp:lastModifiedBy>
  <dcterms:modified xsi:type="dcterms:W3CDTF">2007-04-05T02:32:51Z</dcterms:modified>
  <cp:revision>10</cp:revision>
  <dc:subject/>
  <dc:title>제 1장 교육과정과 교수학습</dc:title>
</cp:coreProperties>
</file>